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77F-3814-4F03-9447-3F46D000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192-0799-4F6B-BFAB-72509B07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D6F-A170-4BFC-9BD0-DBE7BA6C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70B-B621-4546-8283-0CC1EC54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EF5-D4CB-453E-A38A-7A3BE384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823-63BA-4CFD-8230-D43EE94F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3F9-162E-414C-8E20-F862493B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FCD-F11D-4F41-9B45-B57A6ABE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8F1-B632-4595-AA14-65EC4FE7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865-5908-4284-A0A0-CB1FF0E4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673-C83E-4269-8181-5E2CEDDA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900-E630-4044-B231-582D4F45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47DD-B337-4C38-9E5C-36BDFD973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mputer.howstuffworks.com/zombie-computer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owstuffworks.com/virus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ing on 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ng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ing or downloa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ies and tracking what you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standing Copy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ents-Goodwill-Trade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ing credit for work c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ations of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ations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mputer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mputer.howstuffworks.com/zombie-computer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mb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 (EFT – AT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fe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viruse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stuffworks.com/viru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m – Trojan Horse – Malware – Spy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issa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for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virus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non Microsoft soft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2:42:04Z</dcterms:created>
  <dc:creator>CGB</dc:creator>
  <dc:description/>
  <dc:language>en-US</dc:language>
  <cp:lastModifiedBy>CGB</cp:lastModifiedBy>
  <dcterms:modified xsi:type="dcterms:W3CDTF">2008-01-22T22:56:24Z</dcterms:modified>
  <cp:revision>3</cp:revision>
  <dc:subject/>
  <dc:title>Researching on the Internet</dc:title>
</cp:coreProperties>
</file>